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86446-7672-41C1-A4CF-C39DFC3F9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E2A30-6454-4107-860D-6A39B4894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67C63-1BBA-4D96-B681-1537BDB31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FE963-04BD-4337-84D8-FAB371397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C0ED8-A5B2-450F-BEF1-718A4F68A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8A573-9B41-4FA4-8E1E-DD22C5F22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992BE-3E53-4B5E-8D44-0D94D904E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530BD-6518-4938-A5A3-808042B98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31D6B-8949-4202-9EEC-8E9BA5052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08AC0-23F1-4547-B321-0E4527A4F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04448-BBE6-4BF4-A5EF-E8665FD51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56D48-3849-4E2E-A629-38448A514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B7032-2681-4409-81CB-2727D052B9E8}" type="slidenum"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Obrázok 5" descr=""/>
          <p:cNvPicPr/>
          <p:nvPr/>
        </p:nvPicPr>
        <p:blipFill>
          <a:blip r:embed="rId1"/>
          <a:srcRect l="10651" t="0" r="13428" b="0"/>
          <a:stretch/>
        </p:blipFill>
        <p:spPr>
          <a:xfrm>
            <a:off x="-9360" y="3467160"/>
            <a:ext cx="4547880" cy="3368520"/>
          </a:xfrm>
          <a:prstGeom prst="rect">
            <a:avLst/>
          </a:prstGeom>
          <a:ln w="0">
            <a:noFill/>
          </a:ln>
        </p:spPr>
      </p:pic>
      <p:pic>
        <p:nvPicPr>
          <p:cNvPr id="42" name="Obrázok 3" descr=""/>
          <p:cNvPicPr/>
          <p:nvPr/>
        </p:nvPicPr>
        <p:blipFill>
          <a:blip r:embed="rId2"/>
          <a:srcRect l="12920" t="0" r="12184" b="0"/>
          <a:stretch/>
        </p:blipFill>
        <p:spPr>
          <a:xfrm>
            <a:off x="4635360" y="3467160"/>
            <a:ext cx="4508640" cy="3386160"/>
          </a:xfrm>
          <a:prstGeom prst="rect">
            <a:avLst/>
          </a:prstGeom>
          <a:ln w="0">
            <a:noFill/>
          </a:ln>
        </p:spPr>
      </p:pic>
      <p:pic>
        <p:nvPicPr>
          <p:cNvPr id="43" name="Obrázok 2" descr=""/>
          <p:cNvPicPr/>
          <p:nvPr/>
        </p:nvPicPr>
        <p:blipFill>
          <a:blip r:embed="rId3"/>
          <a:srcRect l="827" t="0" r="24257" b="0"/>
          <a:stretch/>
        </p:blipFill>
        <p:spPr>
          <a:xfrm>
            <a:off x="4614840" y="-9360"/>
            <a:ext cx="4529160" cy="3400200"/>
          </a:xfrm>
          <a:prstGeom prst="rect">
            <a:avLst/>
          </a:prstGeom>
          <a:ln w="0">
            <a:noFill/>
          </a:ln>
        </p:spPr>
      </p:pic>
      <p:pic>
        <p:nvPicPr>
          <p:cNvPr id="44" name="Obrázok 1" descr=""/>
          <p:cNvPicPr/>
          <p:nvPr/>
        </p:nvPicPr>
        <p:blipFill>
          <a:blip r:embed="rId4"/>
          <a:srcRect l="20710" t="0" r="4215" b="0"/>
          <a:stretch/>
        </p:blipFill>
        <p:spPr>
          <a:xfrm>
            <a:off x="0" y="-9360"/>
            <a:ext cx="4538520" cy="3400200"/>
          </a:xfrm>
          <a:prstGeom prst="rect">
            <a:avLst/>
          </a:prstGeom>
          <a:ln w="0">
            <a:noFill/>
          </a:ln>
        </p:spPr>
      </p:pic>
      <p:sp>
        <p:nvSpPr>
          <p:cNvPr id="45" name="Text Box 10"/>
          <p:cNvSpPr/>
          <p:nvPr/>
        </p:nvSpPr>
        <p:spPr>
          <a:xfrm>
            <a:off x="64080" y="6518160"/>
            <a:ext cx="31053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3  Pohľad z juhu na posudzovanú lokalitu variantu 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11"/>
          <p:cNvSpPr/>
          <p:nvPr/>
        </p:nvSpPr>
        <p:spPr>
          <a:xfrm>
            <a:off x="4721040" y="3097080"/>
            <a:ext cx="37119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2  Širšie územie urgentu s hlavnou budovou nemocnice Ružino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Line 101"/>
          <p:cNvSpPr/>
          <p:nvPr/>
        </p:nvSpPr>
        <p:spPr>
          <a:xfrm>
            <a:off x="-190440" y="3429000"/>
            <a:ext cx="96519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Line 100"/>
          <p:cNvSpPr/>
          <p:nvPr/>
        </p:nvSpPr>
        <p:spPr>
          <a:xfrm>
            <a:off x="4572000" y="-190440"/>
            <a:ext cx="0" cy="7200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4708440" y="6518160"/>
            <a:ext cx="425124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4  Pozemok pre umiestnenie konštrukcie pre vyvýšený heliport – variant 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9"/>
          <p:cNvSpPr/>
          <p:nvPr/>
        </p:nvSpPr>
        <p:spPr>
          <a:xfrm>
            <a:off x="1137240" y="779400"/>
            <a:ext cx="132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locha pre heli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9"/>
          <p:cNvSpPr/>
          <p:nvPr/>
        </p:nvSpPr>
        <p:spPr>
          <a:xfrm>
            <a:off x="69480" y="3097080"/>
            <a:ext cx="3673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1  Pohľad zo severu na kontaktnú zónu s areálom ZŠ V. Dzurill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Rovná spojovacia šípka 4"/>
          <p:cNvCxnSpPr/>
          <p:nvPr/>
        </p:nvCxnSpPr>
        <p:spPr>
          <a:xfrm>
            <a:off x="1806120" y="1061640"/>
            <a:ext cx="1080" cy="631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53" name="Text Box 9"/>
          <p:cNvSpPr/>
          <p:nvPr/>
        </p:nvSpPr>
        <p:spPr>
          <a:xfrm>
            <a:off x="58320" y="1487520"/>
            <a:ext cx="57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urg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9"/>
          <p:cNvSpPr/>
          <p:nvPr/>
        </p:nvSpPr>
        <p:spPr>
          <a:xfrm>
            <a:off x="4694760" y="239760"/>
            <a:ext cx="1686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hlavný objekt nemocni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9"/>
          <p:cNvSpPr/>
          <p:nvPr/>
        </p:nvSpPr>
        <p:spPr>
          <a:xfrm>
            <a:off x="3612600" y="1027080"/>
            <a:ext cx="996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ZŠ V. Dzurill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9"/>
          <p:cNvSpPr/>
          <p:nvPr/>
        </p:nvSpPr>
        <p:spPr>
          <a:xfrm>
            <a:off x="7122600" y="1503360"/>
            <a:ext cx="57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urg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9"/>
          <p:cNvSpPr/>
          <p:nvPr/>
        </p:nvSpPr>
        <p:spPr>
          <a:xfrm>
            <a:off x="7750080" y="941400"/>
            <a:ext cx="132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locha pre heli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" name="Rovná spojovacia šípka 26"/>
          <p:cNvCxnSpPr/>
          <p:nvPr/>
        </p:nvCxnSpPr>
        <p:spPr>
          <a:xfrm>
            <a:off x="8741880" y="1173240"/>
            <a:ext cx="1080" cy="6307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59" name="Text Box 9"/>
          <p:cNvSpPr/>
          <p:nvPr/>
        </p:nvSpPr>
        <p:spPr>
          <a:xfrm>
            <a:off x="2550600" y="4543560"/>
            <a:ext cx="57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urg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9"/>
          <p:cNvSpPr/>
          <p:nvPr/>
        </p:nvSpPr>
        <p:spPr>
          <a:xfrm>
            <a:off x="465840" y="3684600"/>
            <a:ext cx="132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locha pre heli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1" name="Rovná spojovacia šípka 30"/>
          <p:cNvCxnSpPr/>
          <p:nvPr/>
        </p:nvCxnSpPr>
        <p:spPr>
          <a:xfrm>
            <a:off x="1134720" y="3966840"/>
            <a:ext cx="1080" cy="631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62" name="Text Box 9"/>
          <p:cNvSpPr/>
          <p:nvPr/>
        </p:nvSpPr>
        <p:spPr>
          <a:xfrm>
            <a:off x="7709400" y="4759200"/>
            <a:ext cx="143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revádzkové plochy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ZŠ V. Dzurill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1T12:28:25Z</dcterms:created>
  <dc:creator>ph</dc:creator>
  <dc:description/>
  <dc:language>en-US</dc:language>
  <cp:lastModifiedBy>peterh</cp:lastModifiedBy>
  <cp:lastPrinted>2018-08-07T07:21:11Z</cp:lastPrinted>
  <dcterms:modified xsi:type="dcterms:W3CDTF">2018-08-07T07:30:37Z</dcterms:modified>
  <cp:revision>56</cp:revision>
  <dc:subject/>
  <dc:title>Prezentace aplikace PowerPoint</dc:title>
</cp:coreProperties>
</file>